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D84E-99AA-485B-B30F-B18A50ABD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B05A-8552-4101-A4A0-D3273291FE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s explain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dentifies itself (login name - c), presents request id (n) and requests key and ticket for Ticket Granting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stribution Center (KDC) generates random session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generates Ticket Granting Ticket (TGT)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ession key is encrypted using the client‘s private key K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decrypts session key, uses authentification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GT to obtain service-specific ticket from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S delivers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service-specific ticket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uthenticates itself against server with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which is encrypted us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observation: any two communication partners use their own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49DA-8A4D-400B-8F21-87F6C7486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dows Kerberos package, with the cooperation of Kerberos services running on a domain controller, supports version 5, revision 6, of the Kerberos protocol. This protocol is based on Internet RFC 1510 (more info on www.ietf.or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features are required at the C2 level and have been implemented within Windows OS? Some of the most important featur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etionary Access Control - The ability of every user on the system to decide what access other users should have to their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 Reuse - A guarantee that one user can't recover information belonging to another user when it's no longer in use. For example, a C2 evaluated operating system must ensure that a file deleted by one user can't be recovered by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untability - The ability for the system to uniquely identify every user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diting - The ability for the system to record what users took whic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chieve a C2 evaluation, Windows had to meet all of the C2 feature requirements. However, it actually exceeds C2 requirements in some areas. For example, Windows provides a trusted path - a way to ensure that you are communicating directly with the operating system when providing information like logon passwords - which is not a requirement for C2, but is a requirement for a higher security level, B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63F1-8ED3-4CA2-898D-6CCF0ADA4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8284-6E1E-4FB7-B6D0-2E3589BD0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FA26-9B8B-483F-BB2E-65F7EBF62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1D3C-C9C1-4EE5-9D45-8E5E90B93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49C4-E58E-4698-B0A3-1C25EBC9F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8C31-5F7F-49EC-9971-65F1C168F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8EE6-A186-4949-AAC6-6E6E5C10C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54F8-1730-4891-AA2E-0345F7BEC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9ABC-A33C-43AD-B14C-5C8FE1BB7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CC37-5345-4761-8D19-E2F2234ED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A9C4-F409-4B21-A62B-3A69AB63A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E8FC-7E8A-4ACC-9133-D693C5DE5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7476-3E08-4FD4-92F5-64845741E532}" type="slidenum">
              <a:rPr b="0" lang="en-GB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7: Secur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Security Components and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Logon service (Net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s service (\Windows\System32\Netlogon.dll) that runs inside Lsass and responds to Microsoft LAN Manager 2 Windows NT (pre-Windows 2000) network logo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s handled as local logons are, by sending them to Lsass for 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logon also has a locator service built into it for locating domain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00" y="4035600"/>
            <a:ext cx="129564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040" y="43185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4980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5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56530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97708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55640" y="48243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087280" y="45943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74920" y="52927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4290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3640" y="45734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1847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572436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63640" y="532908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435280" y="48610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4608360"/>
            <a:ext cx="1188720" cy="505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3E78-A1F3-4394-8279-3A95B36D17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gon process (Win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process running \Windows\System32\Winlogon.exe that is responsible for responding to the SAS and for managing interactive logon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al Identification and Authentication (GIN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DLL that runs in the Winlogon process and that Winlogon uses to obtain a user's name and password or smart card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is \Windows\System32\Msgina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00" y="3898800"/>
            <a:ext cx="129564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5040" y="418212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411336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95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5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9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51664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8402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55640" y="4687920"/>
            <a:ext cx="720720" cy="7920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087280" y="445788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74920" y="515628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29264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43640" y="4437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04828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5879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519264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280" y="47242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787920"/>
            <a:ext cx="1547640" cy="82836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6F27-7FBD-43F4-9527-663978E07E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Refere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object access checks, manipulates privileges, and generates aud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f functions in Ntoskrnl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ocumented in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d to user mode by Windows API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 Open Ntoskrnl.exe with Dependency Walker and view functions starting with “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392F-BD90-4A24-8E31-721516E317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mmunication between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RM and LS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via local procedure call (L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saCommandPort/SeRmCommand port fo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 of private ports/shared memory when initialization is 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3597120"/>
            <a:ext cx="2210040" cy="580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Local security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authority (LSA)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4560" y="4206960"/>
            <a:ext cx="22100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Lsa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4206960"/>
            <a:ext cx="223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06960"/>
            <a:ext cx="223056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5276880"/>
            <a:ext cx="22100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Rm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5276880"/>
            <a:ext cx="2230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com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76880"/>
            <a:ext cx="22305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657760"/>
            <a:ext cx="22100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urit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monit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(S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9600" y="5334120"/>
            <a:ext cx="8344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6320" y="449568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000" y="3276720"/>
            <a:ext cx="20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t audit event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eate logon session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5680" y="569916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rite audit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DAD0-F0F0-41F9-8246-416AD07E5B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hat Makes Logon Secure?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yone logs on, the visible desktop is Winlog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logon registers CTRL+ALT+DEL, the Secure Attention Sequence (SAS), as a standard hotke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 takes you to the Winlogon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lication can deregister it because only the thread that registers a hotkey can deregist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ows’ keyboard input processing code sees SAS it disables keyboard hooks so that no one can intercept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3BA8-4B50-4D4E-B69A-2F8117FC6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etting security identification (account name, password), the GINA sends it to the Local Security Authority Sub System (LS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alls an authentication package to verify the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local or to a legacy domain, MSV1_0 is the authenticator. User name and password are encrypted and compared against the 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to a AD domain the authenticator is Kerberos, which communicates with the AD service on a domain 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match, the SIDs of the corresponding user account and its groups are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LSASS retrieves account privileges from the Security database or from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8886-8387-43C2-8057-1FA3580A5243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reates a token for your logon session and Winlogon attaches it to the first process of your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s are created with the NtCreateToke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process ge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p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its parent’s tok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s and privileges cannot be added to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on session is active as long as there is at least one token associated with the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“LogonSessions –p” (from Sysinternals) to view the active logon sessions on you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A086-1723-458D-9D69-8784CCA4B7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2640" y="254628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4081320"/>
            <a:ext cx="1581120" cy="10972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2044800"/>
          <a:ext cx="302868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302868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3480" y="303372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0720" y="24796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0720" y="3022560"/>
            <a:ext cx="1563840" cy="49392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401004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7480" y="455148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V1_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7800" y="41371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21400" y="3511080"/>
            <a:ext cx="734760" cy="497160"/>
            <a:chOff x="4721400" y="3511080"/>
            <a:chExt cx="734760" cy="497160"/>
          </a:xfrm>
        </p:grpSpPr>
        <p:sp>
          <p:nvSpPr>
            <p:cNvPr id="253" name=""/>
            <p:cNvSpPr/>
            <p:nvPr/>
          </p:nvSpPr>
          <p:spPr>
            <a:xfrm flipH="1" flipV="1">
              <a:off x="4721400" y="3511080"/>
              <a:ext cx="1440" cy="49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400" y="3592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49800" y="25988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41840" y="4803840"/>
            <a:ext cx="60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560" y="55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MS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65720" y="3419640"/>
          <a:ext cx="24019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5720" y="3419640"/>
                    <a:ext cx="24019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F1FB-17AF-482E-A51E-F7C6FBB6CE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70160" y="3076560"/>
            <a:ext cx="1855800" cy="102384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0" y="296712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4520" y="450216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6600" y="2962440"/>
            <a:ext cx="1646280" cy="10666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8920" y="2959200"/>
          <a:ext cx="1857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9200"/>
                    <a:ext cx="1857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110040" y="345456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290052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32360" y="30337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43400"/>
            <a:ext cx="1563840" cy="4935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4040" y="44308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497196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Kerb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4557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2320" y="2887560"/>
            <a:ext cx="1563480" cy="102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2320" y="3429000"/>
            <a:ext cx="156348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NTD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80200" y="29923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2722680"/>
            <a:ext cx="0" cy="319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7240" y="3932280"/>
            <a:ext cx="735120" cy="496800"/>
            <a:chOff x="4557240" y="3932280"/>
            <a:chExt cx="735120" cy="496800"/>
          </a:xfrm>
        </p:grpSpPr>
        <p:sp>
          <p:nvSpPr>
            <p:cNvPr id="278" name=""/>
            <p:cNvSpPr/>
            <p:nvPr/>
          </p:nvSpPr>
          <p:spPr>
            <a:xfrm flipH="1" flipV="1">
              <a:off x="4557240" y="3932280"/>
              <a:ext cx="1800" cy="49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2600" y="4013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 flipV="1">
            <a:off x="7462440" y="3948120"/>
            <a:ext cx="1800" cy="496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0480" y="3674880"/>
            <a:ext cx="1390680" cy="1495080"/>
            <a:chOff x="5370480" y="3674880"/>
            <a:chExt cx="1390680" cy="1495080"/>
          </a:xfrm>
        </p:grpSpPr>
        <p:sp>
          <p:nvSpPr>
            <p:cNvPr id="282" name=""/>
            <p:cNvSpPr/>
            <p:nvPr/>
          </p:nvSpPr>
          <p:spPr>
            <a:xfrm flipV="1">
              <a:off x="5370480" y="3674880"/>
              <a:ext cx="1390680" cy="149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7320" y="3797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662160" y="2449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main Contro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4632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cal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mote Logon - Active Direc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gon is for a domain account, the encrypted credentials are sent to LSASS on the domain control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2000" y="4437000"/>
            <a:ext cx="1079640" cy="1513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A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06AA-0493-4330-B04D-6526278F0BB3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253880"/>
            <a:ext cx="37864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ccount store in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74000" y="1413000"/>
            <a:ext cx="1807560" cy="1717560"/>
            <a:chOff x="7074000" y="1413000"/>
            <a:chExt cx="1807560" cy="1717560"/>
          </a:xfrm>
        </p:grpSpPr>
        <p:sp>
          <p:nvSpPr>
            <p:cNvPr id="292" name=""/>
            <p:cNvSpPr/>
            <p:nvPr/>
          </p:nvSpPr>
          <p:spPr>
            <a:xfrm>
              <a:off x="7074000" y="1413000"/>
              <a:ext cx="1807560" cy="17175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b6532"/>
                </a:gs>
                <a:gs pos="100000">
                  <a:srgbClr val="99cc66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85880" y="1944360"/>
              <a:ext cx="0" cy="12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520" y="1791360"/>
              <a:ext cx="159120" cy="1400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18480" y="2169720"/>
              <a:ext cx="167040" cy="29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1720" y="2187360"/>
              <a:ext cx="249480" cy="30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7760" y="2068920"/>
              <a:ext cx="157320" cy="1418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12480" y="2541960"/>
              <a:ext cx="279720" cy="35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8480" y="2531160"/>
              <a:ext cx="298800" cy="3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8480" y="2523240"/>
              <a:ext cx="0" cy="37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7680" y="2505600"/>
              <a:ext cx="170280" cy="3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350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8120" y="244404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32800" y="2444040"/>
              <a:ext cx="1573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04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36640" y="2824200"/>
              <a:ext cx="15768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892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1147680" cy="1074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80880" y="1413000"/>
            <a:ext cx="7413840" cy="2679480"/>
            <a:chOff x="380880" y="1413000"/>
            <a:chExt cx="7413840" cy="2679480"/>
          </a:xfrm>
        </p:grpSpPr>
        <p:sp>
          <p:nvSpPr>
            <p:cNvPr id="310" name=""/>
            <p:cNvSpPr/>
            <p:nvPr/>
          </p:nvSpPr>
          <p:spPr>
            <a:xfrm>
              <a:off x="380880" y="254160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grated Kerberos v5 log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772160" y="1413000"/>
              <a:ext cx="3022560" cy="2679480"/>
              <a:chOff x="4772160" y="1413000"/>
              <a:chExt cx="3022560" cy="267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72160" y="1413000"/>
                <a:ext cx="2438280" cy="1468440"/>
              </a:xfrm>
              <a:prstGeom prst="ellipse">
                <a:avLst/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ey Distribu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enter (KDC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558040" y="2881440"/>
                <a:ext cx="741240" cy="121104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6920" y="2211480"/>
                <a:ext cx="577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96720" y="3429000"/>
            <a:ext cx="5881680" cy="2535120"/>
            <a:chOff x="396720" y="3429000"/>
            <a:chExt cx="5881680" cy="2535120"/>
          </a:xfrm>
        </p:grpSpPr>
        <p:sp>
          <p:nvSpPr>
            <p:cNvPr id="316" name=""/>
            <p:cNvSpPr/>
            <p:nvPr/>
          </p:nvSpPr>
          <p:spPr>
            <a:xfrm>
              <a:off x="396720" y="3429000"/>
              <a:ext cx="44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tected store for public key credent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43520" y="4975200"/>
              <a:ext cx="1334880" cy="988920"/>
              <a:chOff x="4943520" y="4975200"/>
              <a:chExt cx="1334880" cy="98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4943520" y="4975200"/>
                <a:ext cx="1334880" cy="988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81800"/>
                  </a:gs>
                  <a:gs pos="100000">
                    <a:srgbClr val="ff9900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34000" y="5308560"/>
                <a:ext cx="480960" cy="534960"/>
                <a:chOff x="5634000" y="5308560"/>
                <a:chExt cx="480960" cy="534960"/>
              </a:xfrm>
            </p:grpSpPr>
            <p:graphicFrame>
              <p:nvGraphicFramePr>
                <p:cNvPr id="320" name=""/>
                <p:cNvGraphicFramePr/>
                <p:nvPr/>
              </p:nvGraphicFramePr>
              <p:xfrm>
                <a:off x="5634000" y="5308560"/>
                <a:ext cx="480960" cy="534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34000" y="5308560"/>
                          <a:ext cx="480960" cy="53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2" name=""/>
                <p:cNvSpPr/>
                <p:nvPr/>
              </p:nvSpPr>
              <p:spPr>
                <a:xfrm>
                  <a:off x="5709960" y="5420160"/>
                  <a:ext cx="13968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23" name=""/>
              <p:cNvGraphicFramePr/>
              <p:nvPr/>
            </p:nvGraphicFramePr>
            <p:xfrm>
              <a:off x="5068800" y="5297400"/>
              <a:ext cx="363600" cy="487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68800" y="5297400"/>
                        <a:ext cx="363600" cy="48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396720" y="4322880"/>
            <a:ext cx="8294400" cy="1363680"/>
            <a:chOff x="396720" y="4322880"/>
            <a:chExt cx="8294400" cy="1363680"/>
          </a:xfrm>
        </p:grpSpPr>
        <p:grpSp>
          <p:nvGrpSpPr>
            <p:cNvPr id="326" name=""/>
            <p:cNvGrpSpPr/>
            <p:nvPr/>
          </p:nvGrpSpPr>
          <p:grpSpPr>
            <a:xfrm>
              <a:off x="7964640" y="4322880"/>
              <a:ext cx="726480" cy="960120"/>
              <a:chOff x="7964640" y="4322880"/>
              <a:chExt cx="726480" cy="96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8217000" y="4353120"/>
                <a:ext cx="315360" cy="92988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35000" y="4842720"/>
                <a:ext cx="280800" cy="3956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35000" y="4523400"/>
                <a:ext cx="267480" cy="26604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64640" y="4324680"/>
                <a:ext cx="567720" cy="38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64640" y="4324680"/>
                <a:ext cx="253800" cy="9583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8560" y="4357080"/>
                <a:ext cx="29880" cy="9255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35000" y="4521600"/>
                <a:ext cx="280800" cy="27792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35000" y="4470840"/>
                <a:ext cx="280800" cy="5472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64640" y="4322880"/>
                <a:ext cx="567720" cy="40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14840" y="4353120"/>
                <a:ext cx="317520" cy="92988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640" y="4324680"/>
                <a:ext cx="252360" cy="9583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8560" y="4359240"/>
                <a:ext cx="0" cy="89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88560" y="437112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8560" y="443844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88560" y="4458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88560" y="4521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88560" y="47754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5000" y="4536000"/>
                <a:ext cx="0" cy="25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14360" y="45234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35000" y="4523400"/>
                <a:ext cx="267480" cy="2638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680" y="4769640"/>
                <a:ext cx="1332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234640" y="4606920"/>
                <a:ext cx="26532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8234640" y="4692240"/>
                <a:ext cx="265320" cy="1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88560" y="4842720"/>
                <a:ext cx="343800" cy="338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88560" y="5200200"/>
                <a:ext cx="343800" cy="42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35000" y="486288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4360" y="484272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35000" y="5175720"/>
                <a:ext cx="280800" cy="42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35000" y="5159160"/>
                <a:ext cx="280800" cy="42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5000" y="5145480"/>
                <a:ext cx="280800" cy="40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35000" y="5128920"/>
                <a:ext cx="280800" cy="36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35000" y="5110920"/>
                <a:ext cx="280800" cy="3816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35000" y="4389480"/>
                <a:ext cx="267480" cy="42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00680" y="4419720"/>
                <a:ext cx="13320" cy="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00160" y="4470840"/>
                <a:ext cx="150120" cy="5472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35000" y="4470840"/>
                <a:ext cx="280800" cy="4824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35000" y="4493160"/>
                <a:ext cx="215280" cy="34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8448840" y="4497120"/>
                <a:ext cx="6516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49200" y="4470840"/>
                <a:ext cx="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4409640"/>
                <a:ext cx="2772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684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536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6532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405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36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232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7360" y="452340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30920" y="5151240"/>
                <a:ext cx="160200" cy="91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96720" y="486108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ustry standard network security protoco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4491000"/>
              <a:ext cx="2222640" cy="1800"/>
            </a:xfrm>
            <a:prstGeom prst="line">
              <a:avLst/>
            </a:prstGeom>
            <a:ln w="38160">
              <a:solidFill>
                <a:srgbClr val="fe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1800" y="4597560"/>
              <a:ext cx="136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rberos,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/TLS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7280" y="627372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L - Secure Socket Layer, TLS - Transport Layer Security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F9BF-7BC6-4D9F-A300-7DCFCDCB6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6D4A-AC00-4A5A-884E-9686BC3D612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ross-platform Strate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Kerberos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698480" y="3429000"/>
            <a:ext cx="862200" cy="83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3480" y="494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6080" y="5480640"/>
            <a:ext cx="2210760" cy="45972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S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52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22280" y="519696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0" y="3427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524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684760" y="514944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9520" y="5297760"/>
            <a:ext cx="2245680" cy="8254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 Kerber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08680" y="489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-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27080" y="342756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17920" y="4610160"/>
            <a:ext cx="1908000" cy="1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11640" y="5703840"/>
            <a:ext cx="2435040" cy="0"/>
          </a:xfrm>
          <a:prstGeom prst="line">
            <a:avLst/>
          </a:prstGeom>
          <a:ln w="38160">
            <a:solidFill>
              <a:srgbClr val="99cc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30760" y="1851120"/>
            <a:ext cx="690480" cy="750600"/>
            <a:chOff x="3830760" y="1851120"/>
            <a:chExt cx="690480" cy="750600"/>
          </a:xfrm>
        </p:grpSpPr>
        <p:sp>
          <p:nvSpPr>
            <p:cNvPr id="397" name=""/>
            <p:cNvSpPr/>
            <p:nvPr/>
          </p:nvSpPr>
          <p:spPr>
            <a:xfrm>
              <a:off x="4070520" y="18748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87800" y="22575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7800" y="20080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0760" y="18525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0760" y="18525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43520" y="18781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87800" y="20066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7800" y="19670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0760" y="18511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8720" y="18748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18525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520" y="18795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3520" y="1888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3520" y="1941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3520" y="195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3520" y="2006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3520" y="2205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87800" y="20178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3120" y="20080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87800" y="20080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22003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087440" y="20732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87440" y="21398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3520" y="2257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3520" y="25369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7800" y="22734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3120" y="22575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7800" y="25178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25048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7800" y="24940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7800" y="24811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24670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7800" y="19033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160" y="19270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9720" y="19670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7800" y="19670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87800" y="19843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1200" y="19875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1200" y="19670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0760" y="1919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7348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164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49800" y="19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472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288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560" y="20080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68960" y="24987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2573280" y="2614320"/>
            <a:ext cx="1420920" cy="1089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1727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1992240"/>
            <a:ext cx="30477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20467"/>
              <a:gd name="adj5" fmla="val 319745"/>
              <a:gd name="adj6" fmla="val -3916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S-Kerb5 Token formats (RFC 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33520" y="4751280"/>
            <a:ext cx="1006560" cy="3682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59480" y="3429000"/>
            <a:ext cx="878040" cy="906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98120" y="624852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PI - Security Service Provider Interface, GSS - Global Security Servic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E191-240E-487C-BDB5-09DC14B955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 Servi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s part of MIT project Ath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implements an authentication procedure which verifies identity of communicat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algorithm, symmetric key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server (Kerberos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(Ticket Granting Ser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proves his identity by presenting an encrypted, service-specific ticket (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n issuing a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server and Ticket Granting Service (TGS) are assumed to be secure (trusted h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5BB3-CBEB-4D7A-8DA9-F8F4E80D99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requires three main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identifies himself against Kerberos Server (Active Directory), it receives a master ticket (the Ticket Granting Ticket - TG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requests service-specific ticke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 his identity with the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uses service-specific ticket to contac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is transparent from user‘s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login program acquires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lient) Applications transparently acquire service-specific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-issued tickets and TGT have a default lifetime of eight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1F07-8B11-4100-8DEF-410837483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4052520"/>
            <a:ext cx="61340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KDC: c, tg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{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t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TGS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-&gt; Server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124080"/>
            <a:ext cx="11430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505320"/>
            <a:ext cx="1143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143000" y="243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76520" y="2286000"/>
            <a:ext cx="2133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828440" y="2362320"/>
            <a:ext cx="2133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429000"/>
            <a:ext cx="2362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25146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335268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22096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14960" y="1905120"/>
            <a:ext cx="886320" cy="459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ically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-loc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92520" y="1828800"/>
            <a:ext cx="3256200" cy="3061800"/>
          </a:xfrm>
          <a:prstGeom prst="rect">
            <a:avLst/>
          </a:prstGeom>
          <a:solidFill>
            <a:srgbClr val="fbf3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‘s secret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: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omm.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between client and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 tgs: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for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:     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lient/service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    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s: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f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uthentication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8C362-337E-41B5-AC24-411DDE1013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s and Authentication info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 tickets contain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time of the 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host running the requested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ssion key for client/serve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ets are encrypted with the server‘s private key (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contains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is encrypted with the session key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AB02-C4FB-4E26-B3D0-8100EB702B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Version 5 -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upported encryption algorithms through Crypto-API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carry info about encryption algorithm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re-used for different encryption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ddresses may have arbitrary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pecify all supported protocols/addresses in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data format and encryption are standard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.1 format (ISO 8824), no special format for multi-by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based on (ISO 88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ontain plaintext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upport multiple personalities, actual role is chosen on plaintext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arry starting time and expira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B0DF-1ACC-43FA-90DC-57B847DA0B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 Characteristic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C returns special tickets on initial ticket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an only changed with those special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ickets may carry two expiration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valid after first but before second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may be pos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or batch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zation dat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copies authorization info from TGT into e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ly generated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Kerberos supports public/private key for initial authentication (to obtain TGT via user-supplied private k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745E-E79E-4B8C-808A-D0B647CEE9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ystem Components (from pp. 48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n (from pp. 5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T.Kohl, B.Clifford Neumann, Theodore Y.Ts’o, The Evolution of the Kerberos Authentication Service, Proceedings of Spring 1991 EurOpen Conference, Tromsø, Nor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Introduction to DC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-Hall, 199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DCE User’sGuide and Reference, Prentice-Hall, 199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3D20-8E18-49EB-83C2-27975D3A938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se – Security 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inc\se.h – additional structur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WRK does not include sources for security processes or network security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A132-7B32-4D9F-B2AF-E8E89DCD3F62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7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curity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the Securi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beros Protocol Principles /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CB07-43DB-43BB-AAB2-9CEE696C7B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ecurity Mechanis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can be applied to all share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NTFS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not the FAT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ed File System protects data while OS is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-authorized physic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support for Kerberos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Key infrastructure to pass digita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Security to protect sensitive data traveling across the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-APIs built int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hing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7F48-81BA-4C60-8D9C-5A658AFC9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three hearts of Windows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 (LSA)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cal user-mod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local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A - on domai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networked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Reference Monit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object access 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D9BD-3B13-4295-8A5B-E9D0228A4F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172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 interfaces (buses, I/O devices, interrupts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al timers, DMA, memory cache control, etc.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733920"/>
            <a:ext cx="8153640" cy="30456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 Service Dispa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6613560"/>
            <a:ext cx="415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9900"/>
                </a:solidFill>
                <a:latin typeface="Century Gothic"/>
              </a:rPr>
              <a:t>Original copyright by Microsoft Corporation.  Used by permiss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971800"/>
            <a:ext cx="1143000" cy="533520"/>
          </a:xfrm>
          <a:prstGeom prst="rect">
            <a:avLst/>
          </a:prstGeom>
          <a:solidFill>
            <a:srgbClr val="99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320" y="2066760"/>
            <a:ext cx="942840" cy="2049120"/>
            <a:chOff x="76320" y="2066760"/>
            <a:chExt cx="942840" cy="2049120"/>
          </a:xfrm>
        </p:grpSpPr>
        <p:sp>
          <p:nvSpPr>
            <p:cNvPr id="102" name=""/>
            <p:cNvSpPr/>
            <p:nvPr/>
          </p:nvSpPr>
          <p:spPr>
            <a:xfrm>
              <a:off x="152280" y="2066760"/>
              <a:ext cx="866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3597120"/>
              <a:ext cx="86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2819520"/>
            <a:ext cx="8686800" cy="609480"/>
          </a:xfrm>
          <a:custGeom>
            <a:avLst/>
            <a:gdLst/>
            <a:ahLst/>
            <a:rect l="l" t="t" r="r" b="b"/>
            <a:pathLst>
              <a:path w="5436" h="468">
                <a:moveTo>
                  <a:pt x="5436" y="468"/>
                </a:moveTo>
                <a:lnTo>
                  <a:pt x="792" y="468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520" y="4343400"/>
            <a:ext cx="1602000" cy="3961440"/>
            <a:chOff x="74520" y="4343400"/>
            <a:chExt cx="1602000" cy="3961440"/>
          </a:xfrm>
        </p:grpSpPr>
        <p:sp>
          <p:nvSpPr>
            <p:cNvPr id="107" name=""/>
            <p:cNvSpPr/>
            <p:nvPr/>
          </p:nvSpPr>
          <p:spPr>
            <a:xfrm>
              <a:off x="74520" y="6292800"/>
              <a:ext cx="16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tosKrnl.Ex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5400000">
              <a:off x="-1218960" y="5790600"/>
              <a:ext cx="39614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432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038480"/>
            <a:ext cx="1067040" cy="1524240"/>
          </a:xfrm>
          <a:prstGeom prst="rect">
            <a:avLst/>
          </a:prstGeom>
          <a:solidFill>
            <a:srgbClr val="9aa3ad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US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ystem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C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343400"/>
            <a:ext cx="121932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/O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067040" cy="121896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914400" cy="106668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144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evice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 Sy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60984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ug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ay 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ecurity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irtual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sses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343400"/>
            <a:ext cx="685800" cy="122544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876920"/>
            <a:ext cx="914400" cy="1295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91440" bIns="4680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raph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3920" y="5562720"/>
            <a:ext cx="7410600" cy="304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867280"/>
            <a:ext cx="7925040" cy="30492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Hardware Abstraction Layer (H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8480"/>
            <a:ext cx="7086600" cy="3049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kernel mode callable interfa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nfigura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ion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regis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520" y="2948040"/>
            <a:ext cx="8734320" cy="2905200"/>
          </a:xfrm>
          <a:custGeom>
            <a:avLst/>
            <a:gdLst/>
            <a:ahLst/>
            <a:rect l="l" t="t" r="r" b="b"/>
            <a:pathLst>
              <a:path w="5502" h="1830">
                <a:moveTo>
                  <a:pt x="5492" y="487"/>
                </a:moveTo>
                <a:lnTo>
                  <a:pt x="5502" y="685"/>
                </a:lnTo>
                <a:lnTo>
                  <a:pt x="4836" y="685"/>
                </a:lnTo>
                <a:lnTo>
                  <a:pt x="4836" y="1599"/>
                </a:lnTo>
                <a:lnTo>
                  <a:pt x="4793" y="1637"/>
                </a:lnTo>
                <a:lnTo>
                  <a:pt x="5194" y="1639"/>
                </a:lnTo>
                <a:lnTo>
                  <a:pt x="5214" y="1827"/>
                </a:lnTo>
                <a:lnTo>
                  <a:pt x="523" y="1830"/>
                </a:lnTo>
                <a:lnTo>
                  <a:pt x="523" y="1638"/>
                </a:lnTo>
                <a:lnTo>
                  <a:pt x="1002" y="1637"/>
                </a:lnTo>
                <a:lnTo>
                  <a:pt x="1002" y="1061"/>
                </a:lnTo>
                <a:lnTo>
                  <a:pt x="357" y="1063"/>
                </a:lnTo>
                <a:lnTo>
                  <a:pt x="357" y="348"/>
                </a:lnTo>
                <a:lnTo>
                  <a:pt x="0" y="338"/>
                </a:lnTo>
                <a:lnTo>
                  <a:pt x="0" y="0"/>
                </a:lnTo>
                <a:lnTo>
                  <a:pt x="715" y="10"/>
                </a:lnTo>
                <a:lnTo>
                  <a:pt x="715" y="486"/>
                </a:lnTo>
                <a:lnTo>
                  <a:pt x="5492" y="487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360" y="695160"/>
            <a:ext cx="129528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6e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9040" y="97848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6000" y="2492280"/>
            <a:ext cx="0" cy="125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60360" y="2494080"/>
            <a:ext cx="7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305000"/>
            <a:ext cx="0" cy="11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15920"/>
            <a:ext cx="2556000" cy="12970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3640" y="134136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31300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63700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148428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71280" y="125424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58920" y="195264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1089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12333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32360" y="2276280"/>
            <a:ext cx="0" cy="208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84464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238428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48360" y="198900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19280" y="152100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70028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8EB0-FC04-4992-887C-1D816EBFF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-mode process (\Windows\System32\Lsass.exe) that implements policies (e.g. password, logon), authentication, and sending audit records to the security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ASS policy database: registry key HKLM\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7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4800" y="40899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4056120"/>
            <a:ext cx="2556000" cy="136836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5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9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7400" y="542448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7400" y="574848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760" y="45957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057040" y="43657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4680" y="50641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42004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13400" y="43448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49561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9760" y="549576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334120" y="510048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05040" y="46324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BEF3-2573-498C-8C9F-3DB2194AAE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subroutines (\Windows\System32\Samsrv.dll ) responsible for managing the database that contains the usernames and groups defined on the loc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database: A database that contains the defined local users and groups, along with their passwords and other attributes. This database is stored in the registry under HKLM\S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rackers attack the local user account password hashes stored in the S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: look at 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Lsass.exe process properties – click on services t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Find DLL – search for Samsrv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701B-440E-4B63-A7B4-40A39C615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rectory service that contains a database that stores information about objects in a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collection of computers and their associated security groups that are managed as a single 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tive Directory server, implemented as a service, \Windows\System32\Ntdsa.dll, that runs in the Lsa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pack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s that run in the context of the Lsass process and that implement Windows authentication poli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Man: \Windows\System32\Msvc1_0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beros: \Windows\System32\Kerberos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otiate: uses LanMan or Kerberos, depending on which is most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2707-3A06-4A66-8CD5-091FF653B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34:45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39:33Z</dcterms:modified>
  <cp:revision>27</cp:revision>
  <dc:subject>Windows Operating Systems Internals Course</dc:subject>
  <dc:title>Unit OS7: Windows Security Components and Concepts</dc:title>
</cp:coreProperties>
</file>